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9DE7-5F5E-400A-832E-CB898A169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07F3-F8CB-4FBC-ADD7-55F01137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1678-B722-4975-AFEC-1A109E534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B106-4603-41BA-A3EF-C914F5044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A92E-32F0-4553-BAA8-C7304802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4BA5-97AA-4581-BBE9-8B7B5675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A90E-7B60-483F-8DC5-9D3EC3C3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3CDF-E524-4588-8D40-FE916DF0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EBF6-360B-41A9-8662-079833E8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5A11-1534-47C5-924E-D4179530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2143-7F32-4E00-B152-69839AC9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24D4-3E05-4420-AD6E-A99BDEB7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7F2B-FDCE-46E0-A027-66A369A4D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in O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0920" y="6093000"/>
            <a:ext cx="3809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y David Shortis 9P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out Lin O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 Onus (William McLintock Onus) was born on 26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cember 1948. He passed away on October 24, 199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04000" y="333360"/>
            <a:ext cx="1944720" cy="1057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1950840" cy="1127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211640" y="2637000"/>
            <a:ext cx="3470400" cy="3886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9280" y="3141720"/>
            <a:ext cx="374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mily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 Onus was the only child of a Scottish mother and an Aboriginal fa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also has a son named Tirik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3645000"/>
            <a:ext cx="1447920" cy="1904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5280" y="5661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s Father Bill O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76720" y="3645000"/>
            <a:ext cx="3179520" cy="1898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132000" y="566100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80000" y="566100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s Son Tiri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More About Lin O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Lin Onus was a self taught artist who began as a motor mechanic before making artifacts for his fathers business called Aboriginal Enterprises in Belgrave V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700360" y="3860640"/>
            <a:ext cx="34462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Award Winning Pai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His Painting Barmah Forest won Canberra's National Heritage Award in 199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442944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complish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ppointment to the Australian Council as Chairman of the Artists Management Association in 199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warded with an Order of Australia for his contribution as an Artist and Ambassad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Lin Onus"/>
          <p:cNvPicPr/>
          <p:nvPr/>
        </p:nvPicPr>
        <p:blipFill>
          <a:blip r:embed="rId1"/>
          <a:stretch/>
        </p:blipFill>
        <p:spPr>
          <a:xfrm>
            <a:off x="3419640" y="4581360"/>
            <a:ext cx="173988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ome of his many           Pain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04000" y="836640"/>
            <a:ext cx="2206800" cy="2952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3971880"/>
            <a:ext cx="3611520" cy="2886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189000"/>
            <a:ext cx="3313080" cy="3405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5867280" y="3933720"/>
            <a:ext cx="3097440" cy="2752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924360" y="4149720"/>
            <a:ext cx="1722240" cy="2290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3348000" y="1557360"/>
            <a:ext cx="34146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9:50:18Z</dcterms:created>
  <dc:creator>Davo</dc:creator>
  <dc:description/>
  <dc:language>en-US</dc:language>
  <cp:lastModifiedBy>Davo</cp:lastModifiedBy>
  <dcterms:modified xsi:type="dcterms:W3CDTF">2008-07-29T11:00:45Z</dcterms:modified>
  <cp:revision>2</cp:revision>
  <dc:subject/>
  <dc:title>Lin Onus</dc:title>
</cp:coreProperties>
</file>